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9310-2A64-477E-B273-CBC61C0F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C912-CC55-4C54-9E6A-74C50BF5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87B6-E71B-44F0-93FD-4C561FF9E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805D-F729-40E3-84F0-29E8A3C02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3619-7CB6-451B-9345-2C045194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E12B-019C-4ABA-A0D0-D4705A89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CA04-83BC-41FD-86F1-CDC29E6E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D539-DEC2-47DA-8436-0E9071AE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DD4E-8F08-4636-93EC-1BA29C7E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0944-A977-4717-8B67-434766AF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A9A9-B35B-4895-8FE0-27484FF5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C264-C61A-45D7-AC3A-C355BD58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EBA4-7264-4F95-BB0B-D5979D524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429000" y="0"/>
            <a:ext cx="5715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05320" y="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d ma maman a oublié mon anniversai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e n’ai même pas pleuré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52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d ma maman était trop occupée pour moi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e n’ai même pas pleuré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419720" y="2438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n, d’accord! Je m’appelle Jonathan e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e ne pleure jamais-même s’il y a une inondatio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114800" y="0"/>
            <a:ext cx="5029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ce que je sais que ma maman m’aim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 F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 m’appelle Jonathan et je ne pleure jamais. Quand je suis tomb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é à bicyclette, je n’ai même pas pleuré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and je me suis fait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éclabousser par les camions,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je n’ai même pas pleur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44197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and je me suis coupé avec mes nouveaux ciseaux, je n’ai même pas pleur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37339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Quand je suis allé chez le dentiste, il m’a réparé toutes les dents parce que j’avais mangé trop de chocolat, mais je n’ai même pas pleuré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4191120"/>
            <a:ext cx="8915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and ma cousine Daphné, experte en karaté, a cassé tous mes jouets, je n’ai même pas pleuré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715000" y="2971800"/>
            <a:ext cx="3276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and les policiers sont venus m’arrêter, je n’ai même pas pleuré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486400" y="1600200"/>
            <a:ext cx="36576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and le docteur m’a donné ma première piqure sur les fesses, je n’ai même pas pleuré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7:18:13Z</dcterms:created>
  <dc:creator>CVJH-LAB</dc:creator>
  <dc:description/>
  <dc:language>en-US</dc:language>
  <cp:lastModifiedBy>nield411</cp:lastModifiedBy>
  <dcterms:modified xsi:type="dcterms:W3CDTF">2008-02-27T04:56:33Z</dcterms:modified>
  <cp:revision>11</cp:revision>
  <dc:subject/>
  <dc:title>Slide 1</dc:title>
</cp:coreProperties>
</file>